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BB09-2B4B-4B2E-A900-D8D1A799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7BEA-F903-4C72-A00E-9C545F8B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DB33-D15F-4D88-B78F-BA4706FE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2D3C-26D4-4E28-AC85-2F324324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FF0C-AC9B-4638-A5DA-51FEBC28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E16-52ED-4E32-9414-E5FD63B8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179-09EC-4BE4-A7AC-9A79C536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ABCE-5D29-4A9A-8019-149F7B20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F28-8D99-4E7C-977C-E2683AC3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5B1-25BB-45E4-856A-021DA836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B86-3EBB-4957-BB58-7C326EFC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16BC-261C-4205-9019-810DDD55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6A96-AF20-4E07-BCD2-11227C144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7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3880" y="1577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94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35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465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1:27:36Z</dcterms:created>
  <dc:creator> </dc:creator>
  <dc:description/>
  <dc:language>en-US</dc:language>
  <cp:lastModifiedBy> </cp:lastModifiedBy>
  <dcterms:modified xsi:type="dcterms:W3CDTF">2009-03-06T01:27:36Z</dcterms:modified>
  <cp:revision>1</cp:revision>
  <dc:subject/>
  <dc:title>Slide 1</dc:title>
</cp:coreProperties>
</file>